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A84-17BC-4EDF-AAB6-FA61AD8F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438-3F88-4E48-81B4-DA4EAF6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8AC-DED8-431A-8E79-F9CE2E0D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DD0-3A90-4798-A3EC-BDAAF5F8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808A-BB82-4240-A012-19172CF0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B97D-D026-4975-AEBD-6277A907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AB1-0B04-484E-A4DC-C6EBFB2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601-1469-45E8-B4F8-DC08405C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A38B-F5F3-431F-BC03-9628045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379-DEAA-4EBA-A71F-C23C8C8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AE52-BF8A-4545-97D3-7D01D46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940-DB20-4C45-8EAF-F356F08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7094-C361-483D-8BA7-02F0523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A580-E113-49CE-BC41-0E6085F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936-7119-4C02-8C18-2C04DD72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3610-2BFC-4A63-865D-95EDD594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9358-D0DB-46D7-9E38-C8F19EC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969B-C730-456F-A3CD-8BB92E5E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C03E-884E-401D-B9D6-6D110A5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EA3B-CDB0-4B19-BAF3-5B6C1FD9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72D7-77C0-499E-ADA6-217B4307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E3A4-7828-4D38-B9B6-08C00327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BC5-72B5-4D69-A53B-B14AEB57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1050-8CA4-4F5C-B874-79F419D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97D5-C674-4139-8DE8-2898617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8217-7D8E-4FFF-8772-D156C183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A0D9-F8DE-4E4A-A343-3E32130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69C8-8FD8-4883-9D62-B0A9463B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5AF4-D344-4631-A25D-33C7B83F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442D-C287-449A-9B58-7F81A589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1F8B-C484-4F11-BB2D-71D90592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7AEA-72CB-43DA-8757-FB2D2B7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5D73-BE3D-466B-895C-225F04E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8E3-2983-4074-AFE5-0E48FF5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796D-425E-46A8-8309-D714FEF4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FD9D-2FE2-4EC2-AD54-550AB3A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519E-D1BC-4D15-B04E-58ABEB74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7FA7-40FD-4623-B351-C7D8BBBA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3746-3EE7-445D-942C-0528F663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F0A4-70B5-460A-9F62-80ED87C1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CE79-7023-40CB-8E44-530FB378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8F10-4EBC-4CE9-BDAD-FC0E879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E6DD-83A4-4F3E-8466-F6B56079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F0372-33F8-4AE0-A2FC-D7192458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F9D-AA5B-40AE-B72E-42208732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7FBE1-EE1B-4F05-8EAC-E101FC25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BFDB-70BA-4883-BACF-A8105700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737B-7702-4276-8665-AC536314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B5FE-B076-4239-ACCB-7A7A240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731C-502E-456E-9BB1-B1B62E4F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937E-5697-46FA-9C47-B3E4E60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FE69-C2AD-4B32-AA78-CEC3939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333A-49CA-4449-AD8F-CA2A239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4E4E6-D4E1-4CFD-95D5-4AA5882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80ED-A35B-4C07-AEA5-F677EC82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62D-D10B-4269-99E9-A50B070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D6ED-B70C-4871-A255-0AD5ED34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FAD2C-0F0F-4E68-9E01-78419F2D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E8B0-6C02-4640-ABB4-D59FE84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A97A-5A52-4682-AE60-D7A2CF1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B4C9-C1F1-4807-A90D-2AFA3DE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B389-2346-4326-A9D6-01A31397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1D78-6EFA-4E94-A934-D78BA57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BC13-D3FF-412E-99C5-FE9B053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1CAE-C5A6-4606-ADCF-A16A340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59337-8B10-4474-A594-F5D00EC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BC7-8906-4BB0-B588-B4DBFA7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B20F-30A0-4C14-B487-EBE9CC70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04284-69A1-41A5-BDFE-F8D5C78F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B0C74-7AA3-4888-A70A-F0D9C9EF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628A-FA60-4446-ABF9-76646F35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A7A5A-CC5A-483F-9C27-BE142B5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16952-5F12-4C9E-8FFB-3BBEED5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C0AC6-2FEC-4D7A-8EE6-3AA8700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EB49E-BC0E-463B-B085-1E8E1C5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0FA5-EFB5-44BF-B493-37C1FCA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E3EE-D932-45A4-B355-F34F649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224-CCEF-4170-A2BB-0887492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5BC1-F484-451D-847A-9091FBA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8E39-6751-4C4E-B1B5-43BFD31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A2BC-B0B1-4A7D-AF3E-E5CFF242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77A7-0CC2-4B57-9B19-CAC8B66C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D2F80-69C8-4452-8947-02DEED8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3D149-8A07-4D2E-A7E6-12E7E0F0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AC44-31B0-4F8A-8722-2BD4763E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B8FFE-8EDB-413F-9C7D-D69FA58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70AB-E84F-4CF7-B2D9-3AA44ED2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ACADE-4E38-4752-A117-A326B60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8D0-6124-4EB8-8A01-C15DE35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B21B-B4D9-4DBF-AFD1-8D6016A3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07F0-70EE-40AD-9138-920A0D2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3C7DB-400A-4377-99DB-049BDE9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486F7-494D-422A-A150-4751865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8223-8400-4621-A00C-99B8B417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7BCA-9FA4-4864-98C8-EF5574B5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55E3-3A06-40FC-9B79-402CF8BB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DED-5F28-4D50-BE1A-8C6A991F53E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F04-56D0-47A0-9EC3-70432946F2B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EA2-EB52-4038-BB65-A26BC3E23FF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206-392C-4487-82D1-7BCC404AF11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E83F-9F5A-470A-A69C-5E7DF86CD56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0E04-361D-4028-AD1F-F122B0501A0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6F75-C892-4EB5-9971-4B13EC4B9A0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9040-6BAB-43AE-B26F-14705DA71E0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2011 AP English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Literature and Composition Result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O’Gorman High Sch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ul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057400"/>
          <a:ext cx="8229600" cy="1482840"/>
        </p:xfrm>
        <a:graphic>
          <a:graphicData uri="http://schemas.openxmlformats.org/drawingml/2006/table">
            <a:tbl>
              <a:tblPr/>
              <a:tblGrid>
                <a:gridCol w="2895480"/>
                <a:gridCol w="990720"/>
                <a:gridCol w="1143000"/>
                <a:gridCol w="1066680"/>
                <a:gridCol w="1067040"/>
                <a:gridCol w="106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erall Score Distrib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mber of O’Gorman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at O’Go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Students Glob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4"/>
          <p:cNvSpPr/>
          <p:nvPr/>
        </p:nvSpPr>
        <p:spPr>
          <a:xfrm>
            <a:off x="457200" y="41911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65% of O’Gorman students scored a 4 or 5 while only 26.2% scored a 4 or 5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student at O’Gorman scored lower than a 3 on the ex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ee Respons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7200" y="1752480"/>
          <a:ext cx="8229600" cy="2027520"/>
        </p:xfrm>
        <a:graphic>
          <a:graphicData uri="http://schemas.openxmlformats.org/drawingml/2006/table">
            <a:tbl>
              <a:tblPr/>
              <a:tblGrid>
                <a:gridCol w="4648320"/>
                <a:gridCol w="1143000"/>
                <a:gridCol w="121896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uestion/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ax Possible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59" name="TextBox 4"/>
          <p:cNvSpPr/>
          <p:nvPr/>
        </p:nvSpPr>
        <p:spPr>
          <a:xfrm>
            <a:off x="45720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ultiple Choice 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981080"/>
          <a:ext cx="8229600" cy="200196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114300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umber of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lobal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 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-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Century 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7"/>
          <p:cNvSpPr/>
          <p:nvPr/>
        </p:nvSpPr>
        <p:spPr>
          <a:xfrm>
            <a:off x="457200" y="44956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’Gorman students had higher means in each respons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ical Compari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447920"/>
          <a:ext cx="8229600" cy="3606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in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an Score (Out of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 Score 3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h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quar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an E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21:29:07Z</dcterms:created>
  <dc:creator>Administrator</dc:creator>
  <dc:description/>
  <dc:language>en-US</dc:language>
  <cp:lastModifiedBy>Administrator</cp:lastModifiedBy>
  <dcterms:modified xsi:type="dcterms:W3CDTF">2011-07-14T17:04:56Z</dcterms:modified>
  <cp:revision>5</cp:revision>
  <dc:subject/>
  <dc:title>2011 AP English  Literature and Composition Results</dc:title>
</cp:coreProperties>
</file>